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7E055F-96C3-41AB-BF0C-08C8E9F9FDC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006768-A5A8-4556-B9B4-F370EF10C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6F0589-13B7-4967-B5D5-E21FD6CB4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609C63-543C-4CF5-AFE7-A1EB86E88E4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D6F344-B456-4F29-A22E-BAC5B4E82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B689A7-2559-4F98-BC5B-1232D7C43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B4D29A-879A-45FD-8104-63DE77647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99A63A-94C5-4E8D-BA44-0A8C54BCB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43AF54-E8F5-4E7B-AAD3-242D296CA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62BEB5-C759-4241-A3DD-DADD8D909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234D59-C7BB-4F43-829D-EEAA55060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34D58B-9D7A-45F7-B3F3-747C93FCF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8C1B5-7074-4EDF-A4EB-A29EBEE3175D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425520" y="6524640"/>
            <a:ext cx="8353440" cy="360"/>
            <a:chOff x="425520" y="6524640"/>
            <a:chExt cx="8353440" cy="360"/>
          </a:xfrm>
        </p:grpSpPr>
        <p:sp>
          <p:nvSpPr>
            <p:cNvPr id="7" name="Line 8"/>
            <p:cNvSpPr/>
            <p:nvPr/>
          </p:nvSpPr>
          <p:spPr>
            <a:xfrm>
              <a:off x="425520" y="6524640"/>
              <a:ext cx="8353440" cy="0"/>
            </a:xfrm>
            <a:prstGeom prst="line">
              <a:avLst/>
            </a:prstGeom>
            <a:ln w="9360">
              <a:solidFill>
                <a:srgbClr val="046c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" name=""/>
            <p:cNvSpPr txBox="1"/>
            <p:nvPr/>
          </p:nvSpPr>
          <p:spPr>
            <a:xfrm>
              <a:off x="425520" y="6524640"/>
              <a:ext cx="83534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9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8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9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50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51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2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3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4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5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6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7" name="Rectangle 12"/>
              <p:cNvSpPr/>
              <p:nvPr/>
            </p:nvSpPr>
            <p:spPr>
              <a:xfrm>
                <a:off x="28440" y="5037840"/>
                <a:ext cx="9115560" cy="1029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8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9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0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61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2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5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6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7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10.xml"/><Relationship Id="rId3" Type="http://schemas.openxmlformats.org/officeDocument/2006/relationships/slide" Target="slide11.xml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第七章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 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心境障碍患者的护理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制作人  罗晓清</a:t>
            </a:r>
            <a:endParaRPr b="1" lang="en-US" sz="32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主要症状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隶书"/>
                <a:ea typeface="隶书"/>
              </a:rPr>
              <a:t>      </a:t>
            </a:r>
            <a:r>
              <a:rPr b="1" lang="zh-CN" sz="2800" spc="-1" strike="noStrike">
                <a:solidFill>
                  <a:srgbClr val="8ac8de"/>
                </a:solidFill>
                <a:latin typeface="隶书"/>
                <a:ea typeface="隶书"/>
              </a:rPr>
              <a:t>思维奔逸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隶书"/>
              </a:rPr>
              <a:t>又称观念飘忽，联想加快，概念一个接一个涌现。表现语流变快，语量增多，滔滔不绝，有时可出现言语中断或不连贯，常伴随境转移，并出现音联，意联。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主要症状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意志行为增强，多为协调性精神运动型兴奋，即内心体验、行为方式与外界环境相协调。患者自觉精力旺盛、爱管闲事，行为轻率，可伴有夸大妄想。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伴随症状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睡眠需要减少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食欲增加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体重改变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精神病性症状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性欲改变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其他：可出现自主神经功能紊乱的各种表现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（二）抑郁发作临床表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1" name="组合 16386"/>
          <p:cNvGrpSpPr/>
          <p:nvPr/>
        </p:nvGrpSpPr>
        <p:grpSpPr>
          <a:xfrm>
            <a:off x="304920" y="1371600"/>
            <a:ext cx="8610120" cy="4875480"/>
            <a:chOff x="304920" y="1371600"/>
            <a:chExt cx="8610120" cy="4875480"/>
          </a:xfrm>
        </p:grpSpPr>
        <p:sp>
          <p:nvSpPr>
            <p:cNvPr id="152" name="矩形 16387"/>
            <p:cNvSpPr/>
            <p:nvPr/>
          </p:nvSpPr>
          <p:spPr>
            <a:xfrm>
              <a:off x="304920" y="1371600"/>
              <a:ext cx="8610120" cy="487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3" name="圆角矩形 16388"/>
            <p:cNvSpPr/>
            <p:nvPr/>
          </p:nvSpPr>
          <p:spPr>
            <a:xfrm>
              <a:off x="3318120" y="1371600"/>
              <a:ext cx="2583000" cy="1950120"/>
            </a:xfrm>
            <a:prstGeom prst="roundRect">
              <a:avLst>
                <a:gd name="adj" fmla="val 16667"/>
              </a:avLst>
            </a:prstGeom>
            <a:solidFill>
              <a:srgbClr val="6b8bdb"/>
            </a:solidFill>
            <a:ln w="9360">
              <a:solidFill>
                <a:srgbClr val="6b8bd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900" spc="-1" strike="noStrike">
                  <a:solidFill>
                    <a:srgbClr val="ffffff"/>
                  </a:solidFill>
                  <a:latin typeface="Arial"/>
                  <a:ea typeface="宋体"/>
                </a:rPr>
                <a:t>核心症状</a:t>
              </a:r>
              <a:endParaRPr b="0" lang="en-US" sz="39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900" spc="-1" strike="noStrike">
                  <a:solidFill>
                    <a:srgbClr val="ffffff"/>
                  </a:solidFill>
                  <a:latin typeface="Arial"/>
                  <a:ea typeface="宋体"/>
                </a:rPr>
                <a:t>“</a:t>
              </a:r>
              <a:r>
                <a:rPr b="0" lang="zh-CN" sz="3900" spc="-1" strike="noStrike">
                  <a:solidFill>
                    <a:srgbClr val="ffffff"/>
                  </a:solidFill>
                  <a:latin typeface="Arial"/>
                  <a:ea typeface="宋体"/>
                </a:rPr>
                <a:t>三低”</a:t>
              </a:r>
              <a:endParaRPr b="0" lang="en-US" sz="39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4" name="圆角矩形 16389"/>
            <p:cNvSpPr/>
            <p:nvPr/>
          </p:nvSpPr>
          <p:spPr>
            <a:xfrm>
              <a:off x="304920" y="4296960"/>
              <a:ext cx="2583000" cy="1950120"/>
            </a:xfrm>
            <a:prstGeom prst="roundRect">
              <a:avLst>
                <a:gd name="adj" fmla="val 16667"/>
              </a:avLst>
            </a:prstGeom>
            <a:solidFill>
              <a:srgbClr val="6b8bdb"/>
            </a:solidFill>
            <a:ln w="9360">
              <a:solidFill>
                <a:srgbClr val="6b8bd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900" spc="-1" strike="noStrike">
                  <a:solidFill>
                    <a:srgbClr val="ffffff"/>
                  </a:solidFill>
                  <a:latin typeface="Arial"/>
                  <a:ea typeface="宋体"/>
                </a:rPr>
                <a:t>情绪低落</a:t>
              </a:r>
              <a:endParaRPr b="0" lang="en-US" sz="3900" spc="-1" strike="noStrike">
                <a:solidFill>
                  <a:srgbClr val="046ca6"/>
                </a:solidFill>
                <a:latin typeface="Arial"/>
              </a:endParaRPr>
            </a:p>
          </p:txBody>
        </p:sp>
        <p:cxnSp>
          <p:nvCxnSpPr>
            <p:cNvPr id="155" name="肘形连接符 16390"/>
            <p:cNvCxnSpPr>
              <a:stCxn id="154" idx="0"/>
              <a:endCxn id="153" idx="2"/>
            </p:cNvCxnSpPr>
            <p:nvPr/>
          </p:nvCxnSpPr>
          <p:spPr>
            <a:xfrm flipV="1">
              <a:off x="1596240" y="3321360"/>
              <a:ext cx="3013920" cy="975600"/>
            </a:xfrm>
            <a:prstGeom prst="straightConnector1">
              <a:avLst/>
            </a:prstGeom>
            <a:ln w="28440">
              <a:solidFill>
                <a:srgbClr val="8face8"/>
              </a:solidFill>
              <a:miter/>
            </a:ln>
          </p:spPr>
        </p:cxnSp>
        <p:sp>
          <p:nvSpPr>
            <p:cNvPr id="156" name="圆角矩形 16391"/>
            <p:cNvSpPr/>
            <p:nvPr/>
          </p:nvSpPr>
          <p:spPr>
            <a:xfrm>
              <a:off x="3318120" y="4296960"/>
              <a:ext cx="2583000" cy="1950120"/>
            </a:xfrm>
            <a:prstGeom prst="roundRect">
              <a:avLst>
                <a:gd name="adj" fmla="val 16667"/>
              </a:avLst>
            </a:prstGeom>
            <a:solidFill>
              <a:srgbClr val="6b8bdb"/>
            </a:solidFill>
            <a:ln w="9360">
              <a:solidFill>
                <a:srgbClr val="6b8bd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900" spc="-1" strike="noStrike">
                  <a:solidFill>
                    <a:srgbClr val="ffffff"/>
                  </a:solidFill>
                  <a:latin typeface="Arial"/>
                  <a:ea typeface="宋体"/>
                </a:rPr>
                <a:t>兴趣缺乏</a:t>
              </a:r>
              <a:endParaRPr b="0" lang="en-US" sz="3900" spc="-1" strike="noStrike">
                <a:solidFill>
                  <a:srgbClr val="046ca6"/>
                </a:solidFill>
                <a:latin typeface="Arial"/>
              </a:endParaRPr>
            </a:p>
          </p:txBody>
        </p:sp>
        <p:cxnSp>
          <p:nvCxnSpPr>
            <p:cNvPr id="157" name="肘形连接符 16392"/>
            <p:cNvCxnSpPr>
              <a:stCxn id="156" idx="0"/>
              <a:endCxn id="153" idx="2"/>
            </p:cNvCxnSpPr>
            <p:nvPr/>
          </p:nvCxnSpPr>
          <p:spPr>
            <a:xfrm flipV="1">
              <a:off x="4597200" y="3327480"/>
              <a:ext cx="15480" cy="975600"/>
            </a:xfrm>
            <a:prstGeom prst="straightConnector1">
              <a:avLst/>
            </a:prstGeom>
            <a:ln w="28440">
              <a:solidFill>
                <a:srgbClr val="8face8"/>
              </a:solidFill>
              <a:miter/>
            </a:ln>
          </p:spPr>
        </p:cxnSp>
        <p:sp>
          <p:nvSpPr>
            <p:cNvPr id="158" name="圆角矩形 16393"/>
            <p:cNvSpPr/>
            <p:nvPr/>
          </p:nvSpPr>
          <p:spPr>
            <a:xfrm>
              <a:off x="6331680" y="4296960"/>
              <a:ext cx="2583000" cy="1950120"/>
            </a:xfrm>
            <a:prstGeom prst="roundRect">
              <a:avLst>
                <a:gd name="adj" fmla="val 16667"/>
              </a:avLst>
            </a:prstGeom>
            <a:solidFill>
              <a:srgbClr val="6b8bdb"/>
            </a:solidFill>
            <a:ln w="9360">
              <a:solidFill>
                <a:srgbClr val="6b8bd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900" spc="-1" strike="noStrike">
                  <a:solidFill>
                    <a:srgbClr val="ffffff"/>
                  </a:solidFill>
                  <a:latin typeface="Arial"/>
                  <a:ea typeface="宋体"/>
                </a:rPr>
                <a:t>乐趣丧失</a:t>
              </a:r>
              <a:endParaRPr b="0" lang="en-US" sz="3900" spc="-1" strike="noStrike">
                <a:solidFill>
                  <a:srgbClr val="046ca6"/>
                </a:solidFill>
                <a:latin typeface="Arial"/>
              </a:endParaRPr>
            </a:p>
          </p:txBody>
        </p:sp>
        <p:cxnSp>
          <p:nvCxnSpPr>
            <p:cNvPr id="159" name="肘形连接符 16394"/>
            <p:cNvCxnSpPr>
              <a:stCxn id="158" idx="0"/>
              <a:endCxn id="153" idx="2"/>
            </p:cNvCxnSpPr>
            <p:nvPr/>
          </p:nvCxnSpPr>
          <p:spPr>
            <a:xfrm flipH="1" flipV="1">
              <a:off x="4609440" y="3321360"/>
              <a:ext cx="3013920" cy="975600"/>
            </a:xfrm>
            <a:prstGeom prst="straightConnector1">
              <a:avLst/>
            </a:prstGeom>
            <a:ln w="28440">
              <a:solidFill>
                <a:srgbClr val="8face8"/>
              </a:solidFill>
              <a:miter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（二）抑郁发作临床表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40" indent="-14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心理症候群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1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抑郁发作包含许多心理学症状，如焦虑，注意力及记忆力下降，认知扭曲，自罪自责，幻觉和妄想，自杀观念和行为等。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（二）抑郁发作临床表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40" indent="-14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躯体症候群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1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主要表现为食欲下降、睡眠障碍、体重减轻、性欲减退、周身不适、便秘、心慌气短、尿频等。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（三）双相情感障碍临床表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双相障碍的临床特点是反复出现心境和活动水平明显紊乱的发作，有时表现为心境高涨、精力充沛和活动增加（躁狂），有时表现为心境低落、精力减退和活动减少（抑郁）。发作间期通常以完全缓解为特征。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亚型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: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混合发作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（四）持续心境障碍临床表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40" indent="-14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环性心境障碍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14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1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1440" indent="-14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恶劣心境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四、诊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抑郁发作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（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）轻度抑郁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（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）中度抑郁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（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）重度抑郁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躁狂发作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（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）轻躁狂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（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）躁狂发作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四、诊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双相情感障碍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环性心境障碍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恶劣心境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            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第一节  心境障碍的临床特点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五、治疗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一 躁狂发作的治疗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药物治疗：碳酸锂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 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抗惊厥药物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 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抗精神病性药物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电休克治疗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五、治疗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二 抑郁发作的治疗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药物治疗：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SSRIs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三环类抗抑郁药物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四环类抗抑郁药物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其他新型抗抑郁药物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电休克治疗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心理治疗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六、预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躁狂发作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抑郁发作 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双相情感障碍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第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二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节  心境障碍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患者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的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护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一、护理评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（一）生理评估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躯体评估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既往健康状况评估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实验室检查及其他辅助检查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一、护理评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（二）心理评估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、认知活动：感知觉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       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思维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       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自知力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、情感活动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、意志行为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一、护理评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（三）社会文化评估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患者的社交、沟通能力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近期负性生活事件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（四）精神状况评估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精神检查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量表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二、护理诊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（一）抑郁发作护理诊断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、有自杀（自伤）的危险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、睡眠型态紊乱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、便秘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、营养状态的改变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、社交隔离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6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、思维过程改变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二、护理诊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7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自理能力缺陷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8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个人应对无效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9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健康维持改变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10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活动无耐力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11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绝望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12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无能为力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二、护理诊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（二）躁狂发作护理诊断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、暴力行为（针对自己或他人）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、营养改变：低于机体需要量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、有受伤的危险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、社交障碍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、思维过程改变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6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、睡眠型态紊乱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7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、个人应对无效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8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、自理缺陷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一、概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相关的基本概念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Arial"/>
              </a:rPr>
              <a:t>情绪（</a:t>
            </a:r>
            <a:r>
              <a:rPr b="1" lang="en-US" sz="2000" spc="-1" strike="noStrike">
                <a:solidFill>
                  <a:srgbClr val="8ac8de"/>
                </a:solidFill>
                <a:latin typeface="Arial"/>
              </a:rPr>
              <a:t>emotion</a:t>
            </a:r>
            <a:r>
              <a:rPr b="1" lang="zh-CN" sz="2000" spc="-1" strike="noStrike">
                <a:solidFill>
                  <a:srgbClr val="8ac8de"/>
                </a:solidFill>
                <a:latin typeface="Arial"/>
              </a:rPr>
              <a:t>）：人对客观事物的态度或因之产生的内心体验。心理学上有广义、狭义之说。广义情绪包括情感。</a:t>
            </a:r>
            <a:endParaRPr b="1" lang="en-US" sz="20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Arial"/>
              </a:rPr>
              <a:t>情感（</a:t>
            </a:r>
            <a:r>
              <a:rPr b="1" lang="en-US" sz="2000" spc="-1" strike="noStrike">
                <a:solidFill>
                  <a:srgbClr val="8ac8de"/>
                </a:solidFill>
                <a:latin typeface="Arial"/>
              </a:rPr>
              <a:t>affect</a:t>
            </a:r>
            <a:r>
              <a:rPr b="1" lang="zh-CN" sz="2000" spc="-1" strike="noStrike">
                <a:solidFill>
                  <a:srgbClr val="8ac8de"/>
                </a:solidFill>
                <a:latin typeface="Arial"/>
              </a:rPr>
              <a:t>）</a:t>
            </a:r>
            <a:r>
              <a:rPr b="1" lang="zh-CN" sz="2000" spc="-1" strike="noStrike">
                <a:solidFill>
                  <a:srgbClr val="8ac8de"/>
                </a:solidFill>
                <a:latin typeface="Arial"/>
              </a:rPr>
              <a:t>:</a:t>
            </a:r>
            <a:r>
              <a:rPr b="1" lang="zh-CN" sz="2000" spc="-1" strike="noStrike">
                <a:solidFill>
                  <a:srgbClr val="8ac8de"/>
                </a:solidFill>
                <a:latin typeface="Arial"/>
              </a:rPr>
              <a:t>高级的、社会性的、与行为的社会评价相关的体验。</a:t>
            </a:r>
            <a:endParaRPr b="1" lang="en-US" sz="20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Arial"/>
              </a:rPr>
              <a:t>狭义情绪：低级的、生物性，与满足欲望直接相关的体验。</a:t>
            </a:r>
            <a:endParaRPr b="1" lang="en-US" sz="20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常见情绪状态：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心境</a:t>
            </a: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Arial"/>
              </a:rPr>
              <a:t>mood</a:t>
            </a: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）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: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一段时间内持久情绪状态。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激情（</a:t>
            </a:r>
            <a:r>
              <a:rPr b="1" lang="en-US" sz="2400" spc="-1" strike="noStrike">
                <a:solidFill>
                  <a:srgbClr val="8ac8de"/>
                </a:solidFill>
                <a:latin typeface="Arial"/>
              </a:rPr>
              <a:t>enthusiasm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）：短暂、强烈的情绪状态。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三、护理目标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（一）抑郁症的护理目标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（二）躁狂症的护理目标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四、护理措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（一）抑郁症的护理措施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（二）躁狂症的护理措施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（一）抑郁症的护理措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生理方面的护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建立良好的治疗性环境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饮食的护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睡眠的护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药物的护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排泄及个人卫生的护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鼓励参加体育锻炼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（一）抑郁症的护理措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心理方面的护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建立良好的护患关系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重视患者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帮助患者提高自尊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协助患者建立正性认知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协助患者做出决定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（一）抑郁症的护理措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社会方面的护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鼓励患者参加集体活动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鼓励家属共同参与</a:t>
            </a:r>
            <a:br>
              <a:rPr sz="2800"/>
            </a:b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fe230c"/>
                </a:solidFill>
                <a:latin typeface="Arial"/>
                <a:ea typeface="宋体"/>
              </a:rPr>
              <a:t>自杀的防范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（二）躁狂症的护理措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生理方面的护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提供安全的环境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保证药物治疗顺利进行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饮食护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睡眠护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个人卫生护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合理安排患者活动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（二）躁狂症的护理措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心理方面的护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建立良好的护患关系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过度不当行为的处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对于“慷慨”的处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满足合理要求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（二）躁狂症的护理措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社会方面的护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避免患者出现不恰当的性行为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防止患者挑拨滋事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预防及处理暴力行为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鼓励家属的参与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五、护理评价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症状消失情况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患者自知力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一般情况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患者的社交能力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家属对疾病相关知识的掌握情况以及提供有效照护的能力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六、健康教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对疾病的认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药物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复诊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康复活动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注意事项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一、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概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情感活动与情感性精神障碍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正常的情感活动</a:t>
            </a: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情感活动每时每刻都在波动但幅度不大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情感症状（症状学诊断）</a:t>
            </a: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情感波动的幅度很大且持续一段时间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情感性精神障碍（疾病学诊断）</a:t>
            </a: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情感症状影响到本人或周围人的生活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14" name="下箭头 7171"/>
          <p:cNvSpPr/>
          <p:nvPr/>
        </p:nvSpPr>
        <p:spPr>
          <a:xfrm>
            <a:off x="4572000" y="3357720"/>
            <a:ext cx="216000" cy="431640"/>
          </a:xfrm>
          <a:prstGeom prst="downArrow">
            <a:avLst>
              <a:gd name="adj1" fmla="val 50000"/>
              <a:gd name="adj2" fmla="val 49958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下箭头 7172"/>
          <p:cNvSpPr/>
          <p:nvPr/>
        </p:nvSpPr>
        <p:spPr>
          <a:xfrm>
            <a:off x="4645080" y="4724280"/>
            <a:ext cx="216000" cy="4320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         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214" name="矩形 44035"/>
          <p:cNvSpPr txBox="1"/>
          <p:nvPr/>
        </p:nvSpPr>
        <p:spPr>
          <a:xfrm rot="5400000">
            <a:off x="1482840" y="2772000"/>
            <a:ext cx="1512720" cy="522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800000"/>
                  </a:solidFill>
                  <a:round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谢谢</a:t>
            </a:r>
            <a:endParaRPr b="0" lang="en-US" sz="1800" spc="1" strike="noStrike">
              <a:ln w="9360">
                <a:solidFill>
                  <a:srgbClr val="800000"/>
                </a:solidFill>
                <a:round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15" name="矩形 44036"/>
          <p:cNvSpPr txBox="1"/>
          <p:nvPr/>
        </p:nvSpPr>
        <p:spPr>
          <a:xfrm rot="5400000">
            <a:off x="2094840" y="4103640"/>
            <a:ext cx="2881080" cy="5223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solidFill>
                  <a:srgbClr val="cc0000"/>
                </a:solidFill>
                <a:latin typeface="宋体"/>
              </a:rPr>
              <a:t>大家！</a:t>
            </a:r>
            <a:endParaRPr b="0" lang="en-US" sz="1800" spc="-1" strike="noStrike">
              <a:ln w="0">
                <a:noFill/>
              </a:ln>
              <a:solidFill>
                <a:srgbClr val="cc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一、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概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40" indent="-14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心境障碍又称情感性精神障碍，是指各种原因引起的，以显著而持久的心境或情感改变为主要特征的一组疾病。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1440" indent="-14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主要表现为情感症状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1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少数伴有精神病性症状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1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反复发作，残留症状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二、病因及发病机制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40" indent="-14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遗传因素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1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1440" indent="-14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神经生化因素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1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1440" indent="-14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心理社会因素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1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三、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临床表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txBody>
          <a:bodyPr lIns="94680" rIns="94680" tIns="51480" bIns="514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22" name="文本框 10243"/>
          <p:cNvSpPr/>
          <p:nvPr/>
        </p:nvSpPr>
        <p:spPr>
          <a:xfrm>
            <a:off x="971640" y="2133720"/>
            <a:ext cx="2595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文本框 10244"/>
          <p:cNvSpPr/>
          <p:nvPr/>
        </p:nvSpPr>
        <p:spPr>
          <a:xfrm>
            <a:off x="1332000" y="1773360"/>
            <a:ext cx="2127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弧边矩形 203"/>
          <p:cNvSpPr/>
          <p:nvPr/>
        </p:nvSpPr>
        <p:spPr>
          <a:xfrm>
            <a:off x="1044720" y="1701720"/>
            <a:ext cx="3743280" cy="647640"/>
          </a:xfrm>
          <a:custGeom>
            <a:avLst/>
            <a:gdLst/>
            <a:ahLst/>
            <a:rect l="l" t="t" r="r" b="b"/>
            <a:pathLst>
              <a:path w="432472" h="216024">
                <a:moveTo>
                  <a:pt x="33069" y="0"/>
                </a:moveTo>
                <a:lnTo>
                  <a:pt x="399403" y="0"/>
                </a:lnTo>
                <a:lnTo>
                  <a:pt x="415479" y="23844"/>
                </a:lnTo>
                <a:cubicBezTo>
                  <a:pt x="426421" y="49714"/>
                  <a:pt x="432472" y="78157"/>
                  <a:pt x="432472" y="108013"/>
                </a:cubicBezTo>
                <a:cubicBezTo>
                  <a:pt x="432472" y="137869"/>
                  <a:pt x="426421" y="166312"/>
                  <a:pt x="415479" y="192182"/>
                </a:cubicBezTo>
                <a:lnTo>
                  <a:pt x="399405" y="216024"/>
                </a:lnTo>
                <a:lnTo>
                  <a:pt x="33068" y="216024"/>
                </a:lnTo>
                <a:lnTo>
                  <a:pt x="16993" y="192182"/>
                </a:lnTo>
                <a:cubicBezTo>
                  <a:pt x="6051" y="166312"/>
                  <a:pt x="0" y="137869"/>
                  <a:pt x="0" y="108013"/>
                </a:cubicBezTo>
                <a:cubicBezTo>
                  <a:pt x="0" y="78157"/>
                  <a:pt x="6051" y="49714"/>
                  <a:pt x="16993" y="23844"/>
                </a:cubicBezTo>
                <a:lnTo>
                  <a:pt x="33069" y="0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弧边矩形 203"/>
          <p:cNvSpPr/>
          <p:nvPr/>
        </p:nvSpPr>
        <p:spPr>
          <a:xfrm>
            <a:off x="1044720" y="2852640"/>
            <a:ext cx="3743280" cy="649440"/>
          </a:xfrm>
          <a:custGeom>
            <a:avLst/>
            <a:gdLst/>
            <a:ahLst/>
            <a:rect l="l" t="t" r="r" b="b"/>
            <a:pathLst>
              <a:path w="432472" h="216024">
                <a:moveTo>
                  <a:pt x="33069" y="0"/>
                </a:moveTo>
                <a:lnTo>
                  <a:pt x="399403" y="0"/>
                </a:lnTo>
                <a:lnTo>
                  <a:pt x="415479" y="23844"/>
                </a:lnTo>
                <a:cubicBezTo>
                  <a:pt x="426421" y="49714"/>
                  <a:pt x="432472" y="78157"/>
                  <a:pt x="432472" y="108013"/>
                </a:cubicBezTo>
                <a:cubicBezTo>
                  <a:pt x="432472" y="137869"/>
                  <a:pt x="426421" y="166312"/>
                  <a:pt x="415479" y="192182"/>
                </a:cubicBezTo>
                <a:lnTo>
                  <a:pt x="399405" y="216024"/>
                </a:lnTo>
                <a:lnTo>
                  <a:pt x="33068" y="216024"/>
                </a:lnTo>
                <a:lnTo>
                  <a:pt x="16993" y="192182"/>
                </a:lnTo>
                <a:cubicBezTo>
                  <a:pt x="6051" y="166312"/>
                  <a:pt x="0" y="137869"/>
                  <a:pt x="0" y="108013"/>
                </a:cubicBezTo>
                <a:cubicBezTo>
                  <a:pt x="0" y="78157"/>
                  <a:pt x="6051" y="49714"/>
                  <a:pt x="16993" y="23844"/>
                </a:cubicBezTo>
                <a:lnTo>
                  <a:pt x="33069" y="0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弧边矩形 203"/>
          <p:cNvSpPr/>
          <p:nvPr/>
        </p:nvSpPr>
        <p:spPr>
          <a:xfrm>
            <a:off x="1044720" y="4005360"/>
            <a:ext cx="3743280" cy="647640"/>
          </a:xfrm>
          <a:custGeom>
            <a:avLst/>
            <a:gdLst/>
            <a:ahLst/>
            <a:rect l="l" t="t" r="r" b="b"/>
            <a:pathLst>
              <a:path w="432472" h="216024">
                <a:moveTo>
                  <a:pt x="33069" y="0"/>
                </a:moveTo>
                <a:lnTo>
                  <a:pt x="399403" y="0"/>
                </a:lnTo>
                <a:lnTo>
                  <a:pt x="415479" y="23844"/>
                </a:lnTo>
                <a:cubicBezTo>
                  <a:pt x="426421" y="49714"/>
                  <a:pt x="432472" y="78157"/>
                  <a:pt x="432472" y="108013"/>
                </a:cubicBezTo>
                <a:cubicBezTo>
                  <a:pt x="432472" y="137869"/>
                  <a:pt x="426421" y="166312"/>
                  <a:pt x="415479" y="192182"/>
                </a:cubicBezTo>
                <a:lnTo>
                  <a:pt x="399405" y="216024"/>
                </a:lnTo>
                <a:lnTo>
                  <a:pt x="33068" y="216024"/>
                </a:lnTo>
                <a:lnTo>
                  <a:pt x="16993" y="192182"/>
                </a:lnTo>
                <a:cubicBezTo>
                  <a:pt x="6051" y="166312"/>
                  <a:pt x="0" y="137869"/>
                  <a:pt x="0" y="108013"/>
                </a:cubicBezTo>
                <a:cubicBezTo>
                  <a:pt x="0" y="78157"/>
                  <a:pt x="6051" y="49714"/>
                  <a:pt x="16993" y="23844"/>
                </a:cubicBezTo>
                <a:lnTo>
                  <a:pt x="33069" y="0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弧边矩形 203"/>
          <p:cNvSpPr/>
          <p:nvPr/>
        </p:nvSpPr>
        <p:spPr>
          <a:xfrm>
            <a:off x="1044720" y="5229360"/>
            <a:ext cx="3743280" cy="647640"/>
          </a:xfrm>
          <a:custGeom>
            <a:avLst/>
            <a:gdLst/>
            <a:ahLst/>
            <a:rect l="l" t="t" r="r" b="b"/>
            <a:pathLst>
              <a:path w="432472" h="216024">
                <a:moveTo>
                  <a:pt x="33069" y="0"/>
                </a:moveTo>
                <a:lnTo>
                  <a:pt x="399403" y="0"/>
                </a:lnTo>
                <a:lnTo>
                  <a:pt x="415479" y="23844"/>
                </a:lnTo>
                <a:cubicBezTo>
                  <a:pt x="426421" y="49714"/>
                  <a:pt x="432472" y="78157"/>
                  <a:pt x="432472" y="108013"/>
                </a:cubicBezTo>
                <a:cubicBezTo>
                  <a:pt x="432472" y="137869"/>
                  <a:pt x="426421" y="166312"/>
                  <a:pt x="415479" y="192182"/>
                </a:cubicBezTo>
                <a:lnTo>
                  <a:pt x="399405" y="216024"/>
                </a:lnTo>
                <a:lnTo>
                  <a:pt x="33068" y="216024"/>
                </a:lnTo>
                <a:lnTo>
                  <a:pt x="16993" y="192182"/>
                </a:lnTo>
                <a:cubicBezTo>
                  <a:pt x="6051" y="166312"/>
                  <a:pt x="0" y="137869"/>
                  <a:pt x="0" y="108013"/>
                </a:cubicBezTo>
                <a:cubicBezTo>
                  <a:pt x="0" y="78157"/>
                  <a:pt x="6051" y="49714"/>
                  <a:pt x="16993" y="23844"/>
                </a:cubicBezTo>
                <a:lnTo>
                  <a:pt x="33069" y="0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文本框 10249"/>
          <p:cNvSpPr/>
          <p:nvPr/>
        </p:nvSpPr>
        <p:spPr>
          <a:xfrm>
            <a:off x="1363680" y="1857240"/>
            <a:ext cx="3281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躁狂发作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文本框 10250"/>
          <p:cNvSpPr/>
          <p:nvPr/>
        </p:nvSpPr>
        <p:spPr>
          <a:xfrm>
            <a:off x="1260360" y="2922480"/>
            <a:ext cx="324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抑郁发作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文本框 10251"/>
          <p:cNvSpPr/>
          <p:nvPr/>
        </p:nvSpPr>
        <p:spPr>
          <a:xfrm>
            <a:off x="1332000" y="4076640"/>
            <a:ext cx="282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双相情感障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文本框 10252"/>
          <p:cNvSpPr/>
          <p:nvPr/>
        </p:nvSpPr>
        <p:spPr>
          <a:xfrm>
            <a:off x="1332000" y="5302080"/>
            <a:ext cx="27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持续性心境障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（一）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躁狂发作临床表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3" name="组合 11266"/>
          <p:cNvGrpSpPr/>
          <p:nvPr/>
        </p:nvGrpSpPr>
        <p:grpSpPr>
          <a:xfrm>
            <a:off x="250920" y="1484280"/>
            <a:ext cx="8610120" cy="4875480"/>
            <a:chOff x="250920" y="1484280"/>
            <a:chExt cx="8610120" cy="4875480"/>
          </a:xfrm>
        </p:grpSpPr>
        <p:sp>
          <p:nvSpPr>
            <p:cNvPr id="134" name="矩形 11267"/>
            <p:cNvSpPr/>
            <p:nvPr/>
          </p:nvSpPr>
          <p:spPr>
            <a:xfrm>
              <a:off x="250920" y="1484280"/>
              <a:ext cx="8610120" cy="487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5" name="圆角矩形 11268"/>
            <p:cNvSpPr/>
            <p:nvPr/>
          </p:nvSpPr>
          <p:spPr>
            <a:xfrm>
              <a:off x="3264120" y="1484280"/>
              <a:ext cx="2583000" cy="1950120"/>
            </a:xfrm>
            <a:prstGeom prst="roundRect">
              <a:avLst>
                <a:gd name="adj" fmla="val 16667"/>
              </a:avLst>
            </a:prstGeom>
            <a:solidFill>
              <a:srgbClr val="6b8bdb"/>
            </a:solidFill>
            <a:ln w="9360">
              <a:solidFill>
                <a:srgbClr val="6b8bd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900" spc="-1" strike="noStrike">
                  <a:solidFill>
                    <a:srgbClr val="ffffff"/>
                  </a:solidFill>
                  <a:latin typeface="Arial"/>
                  <a:ea typeface="宋体"/>
                </a:rPr>
                <a:t>核心症状</a:t>
              </a:r>
              <a:endParaRPr b="0" lang="en-US" sz="39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900" spc="-1" strike="noStrike">
                  <a:solidFill>
                    <a:srgbClr val="ffffff"/>
                  </a:solidFill>
                  <a:latin typeface="Arial"/>
                  <a:ea typeface="宋体"/>
                </a:rPr>
                <a:t>“</a:t>
              </a:r>
              <a:r>
                <a:rPr b="0" lang="zh-CN" sz="3900" spc="-1" strike="noStrike">
                  <a:solidFill>
                    <a:srgbClr val="ffffff"/>
                  </a:solidFill>
                  <a:latin typeface="Arial"/>
                  <a:ea typeface="宋体"/>
                </a:rPr>
                <a:t>三高”</a:t>
              </a:r>
              <a:endParaRPr b="0" lang="en-US" sz="39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6" name="圆角矩形 11269"/>
            <p:cNvSpPr/>
            <p:nvPr/>
          </p:nvSpPr>
          <p:spPr>
            <a:xfrm>
              <a:off x="250920" y="4409640"/>
              <a:ext cx="2583000" cy="1950120"/>
            </a:xfrm>
            <a:prstGeom prst="roundRect">
              <a:avLst>
                <a:gd name="adj" fmla="val 16667"/>
              </a:avLst>
            </a:prstGeom>
            <a:solidFill>
              <a:srgbClr val="6b8bdb"/>
            </a:solidFill>
            <a:ln w="9360">
              <a:solidFill>
                <a:srgbClr val="6b8bd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900" spc="-1" strike="noStrike" u="sng">
                  <a:solidFill>
                    <a:srgbClr val="ddb523"/>
                  </a:solidFill>
                  <a:uFillTx/>
                  <a:latin typeface="Arial"/>
                  <a:ea typeface="宋体"/>
                  <a:hlinkClick r:id="rId1" action="ppaction://hlinksldjump"/>
                </a:rPr>
                <a:t>情感高涨</a:t>
              </a:r>
              <a:endParaRPr b="0" lang="en-US" sz="3900" spc="-1" strike="noStrike">
                <a:solidFill>
                  <a:srgbClr val="046ca6"/>
                </a:solidFill>
                <a:latin typeface="Arial"/>
              </a:endParaRPr>
            </a:p>
          </p:txBody>
        </p:sp>
        <p:cxnSp>
          <p:nvCxnSpPr>
            <p:cNvPr id="137" name="肘形连接符 11270"/>
            <p:cNvCxnSpPr>
              <a:stCxn id="136" idx="0"/>
              <a:endCxn id="135" idx="2"/>
            </p:cNvCxnSpPr>
            <p:nvPr/>
          </p:nvCxnSpPr>
          <p:spPr>
            <a:xfrm flipV="1">
              <a:off x="1542240" y="3434040"/>
              <a:ext cx="3013920" cy="975600"/>
            </a:xfrm>
            <a:prstGeom prst="straightConnector1">
              <a:avLst/>
            </a:prstGeom>
            <a:ln w="28440">
              <a:solidFill>
                <a:srgbClr val="8face8"/>
              </a:solidFill>
              <a:miter/>
            </a:ln>
          </p:spPr>
        </p:cxnSp>
        <p:sp>
          <p:nvSpPr>
            <p:cNvPr id="138" name="圆角矩形 11271"/>
            <p:cNvSpPr/>
            <p:nvPr/>
          </p:nvSpPr>
          <p:spPr>
            <a:xfrm>
              <a:off x="3264120" y="4409640"/>
              <a:ext cx="2583000" cy="1950120"/>
            </a:xfrm>
            <a:prstGeom prst="roundRect">
              <a:avLst>
                <a:gd name="adj" fmla="val 16667"/>
              </a:avLst>
            </a:prstGeom>
            <a:solidFill>
              <a:srgbClr val="6b8bdb"/>
            </a:solidFill>
            <a:ln w="9360">
              <a:solidFill>
                <a:srgbClr val="6b8bd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900" spc="-1" strike="noStrike" u="sng">
                  <a:solidFill>
                    <a:srgbClr val="ddb523"/>
                  </a:solidFill>
                  <a:uFillTx/>
                  <a:latin typeface="Arial"/>
                  <a:ea typeface="宋体"/>
                  <a:hlinkClick r:id="rId2" action="ppaction://hlinksldjump"/>
                </a:rPr>
                <a:t>思维奔逸</a:t>
              </a:r>
              <a:endParaRPr b="0" lang="en-US" sz="3900" spc="-1" strike="noStrike">
                <a:solidFill>
                  <a:srgbClr val="046ca6"/>
                </a:solidFill>
                <a:latin typeface="Arial"/>
              </a:endParaRPr>
            </a:p>
          </p:txBody>
        </p:sp>
        <p:cxnSp>
          <p:nvCxnSpPr>
            <p:cNvPr id="139" name="肘形连接符 11272"/>
            <p:cNvCxnSpPr>
              <a:stCxn id="138" idx="0"/>
              <a:endCxn id="135" idx="2"/>
            </p:cNvCxnSpPr>
            <p:nvPr/>
          </p:nvCxnSpPr>
          <p:spPr>
            <a:xfrm flipV="1">
              <a:off x="4540680" y="3434040"/>
              <a:ext cx="15480" cy="975600"/>
            </a:xfrm>
            <a:prstGeom prst="straightConnector1">
              <a:avLst/>
            </a:prstGeom>
            <a:ln w="28440">
              <a:solidFill>
                <a:srgbClr val="8face8"/>
              </a:solidFill>
              <a:miter/>
            </a:ln>
          </p:spPr>
        </p:cxnSp>
        <p:sp>
          <p:nvSpPr>
            <p:cNvPr id="140" name="圆角矩形 11273"/>
            <p:cNvSpPr/>
            <p:nvPr/>
          </p:nvSpPr>
          <p:spPr>
            <a:xfrm>
              <a:off x="6277680" y="4409640"/>
              <a:ext cx="2583000" cy="1950120"/>
            </a:xfrm>
            <a:prstGeom prst="roundRect">
              <a:avLst>
                <a:gd name="adj" fmla="val 16667"/>
              </a:avLst>
            </a:prstGeom>
            <a:solidFill>
              <a:srgbClr val="6b8bdb"/>
            </a:solidFill>
            <a:ln w="9360">
              <a:solidFill>
                <a:srgbClr val="6b8bd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900" spc="-1" strike="noStrike" u="sng">
                  <a:solidFill>
                    <a:srgbClr val="ddb523"/>
                  </a:solidFill>
                  <a:uFillTx/>
                  <a:latin typeface="Arial"/>
                  <a:ea typeface="宋体"/>
                  <a:hlinkClick r:id="rId3" action="ppaction://hlinksldjump"/>
                </a:rPr>
                <a:t>意志活动增强</a:t>
              </a:r>
              <a:endParaRPr b="0" lang="en-US" sz="3900" spc="-1" strike="noStrike">
                <a:solidFill>
                  <a:srgbClr val="046ca6"/>
                </a:solidFill>
                <a:latin typeface="Arial"/>
              </a:endParaRPr>
            </a:p>
          </p:txBody>
        </p:sp>
        <p:cxnSp>
          <p:nvCxnSpPr>
            <p:cNvPr id="141" name="肘形连接符 11274"/>
            <p:cNvCxnSpPr>
              <a:stCxn id="140" idx="0"/>
              <a:endCxn id="135" idx="2"/>
            </p:cNvCxnSpPr>
            <p:nvPr/>
          </p:nvCxnSpPr>
          <p:spPr>
            <a:xfrm flipH="1" flipV="1">
              <a:off x="4555440" y="3434040"/>
              <a:ext cx="3013920" cy="975600"/>
            </a:xfrm>
            <a:prstGeom prst="straightConnector1">
              <a:avLst/>
            </a:prstGeom>
            <a:ln w="28440">
              <a:solidFill>
                <a:srgbClr val="8face8"/>
              </a:solidFill>
              <a:miter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主要症状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隶书"/>
                <a:ea typeface="隶书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隶书"/>
                <a:ea typeface="隶书"/>
              </a:rPr>
              <a:t>情感高涨：情感活动明显增强，表现为不同程度的病态喜悦，自我感觉良好，有与环境不相符的过分的愉快 、欢乐，语音高昂，眉飞色舞，喜笑颜开，表情丰富，但不稳定，可因琐事而发怒，但转瞬即逝。表现可理解的 、带有感染性的情绪高涨，易引起周围人的共鸣见于躁狂</a:t>
            </a:r>
            <a:r>
              <a:rPr b="1" lang="en-US" sz="2800" spc="-1" strike="noStrike">
                <a:solidFill>
                  <a:srgbClr val="8ac8de"/>
                </a:solidFill>
                <a:latin typeface="隶书"/>
                <a:ea typeface="隶书"/>
              </a:rPr>
              <a:t>.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1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cp:keywords/>
  <dc:language>en-US</dc:language>
  <cp:lastModifiedBy>dell</cp:lastModifiedBy>
  <dcterms:modified xsi:type="dcterms:W3CDTF">2015-12-31T09:24:37Z</dcterms:modified>
  <cp:revision>18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346</vt:lpwstr>
  </property>
</Properties>
</file>